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6DCC-7689-4E0C-A77C-B0F687C2A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0940-FC6D-44B1-A4D9-7056C0345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4DF4-E839-4072-BCB9-38375BED7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770D-D44D-4107-B780-5B2872F10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7D2C-1476-4403-8716-636467266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A538-858F-4969-8F98-8F900AEFA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147C-953C-40C1-9E1A-2CCD8C6E6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593A-8EF4-4A1C-8E04-79DB28B25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048B-B64B-4A2B-B7DC-016BEA450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BDEF-DD1F-442B-9CF5-6A92FC3D6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13CD-9FC5-42E8-AD23-92D1D8E60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97E9-05C8-458C-B081-AECFB9879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8F783-8BF4-49DC-A939-69BB5B3CC8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57200" y="1219320"/>
            <a:ext cx="8229600" cy="388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07932" dir="2700000" blurRad="0" rotWithShape="0">
                    <a:srgbClr val="c0c0c0"/>
                  </a:outerShdw>
                </a:effectLst>
                <a:latin typeface="Arial Black"/>
              </a:rPr>
              <a:t>Tell me 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07932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07932" dir="2700000" blurRad="0" rotWithShape="0">
                    <a:srgbClr val="c0c0c0"/>
                  </a:outerShdw>
                </a:effectLst>
                <a:latin typeface="Arial Black"/>
              </a:rPr>
              <a:t>the Italian for.....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07932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5000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28600" y="380880"/>
            <a:ext cx="8534520" cy="2133720"/>
          </a:xfrm>
          <a:prstGeom prst="wedgeRoundRectCallout">
            <a:avLst>
              <a:gd name="adj1" fmla="val -39787"/>
              <a:gd name="adj2" fmla="val 8006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MY FAMILY THERE ARE THREE PEO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AM TALL, MY MOTHER IS VERY T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MY FATHER IS THE TALLEST OF US A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3352680"/>
            <a:ext cx="8229600" cy="2438640"/>
          </a:xfrm>
          <a:prstGeom prst="wedgeRoundRectCallout">
            <a:avLst>
              <a:gd name="adj1" fmla="val 43000"/>
              <a:gd name="adj2" fmla="val 75847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LLA MIA FAMIGLIA CI SONO TRE PERSON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O SONO ALTA/O, MIA MADRE E’ MOLTO AL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ALTISSIM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 MIO PADRE E’ IL PIU’ ALTO DI NOI TUTT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5000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33520" y="304920"/>
            <a:ext cx="8001000" cy="2361960"/>
          </a:xfrm>
          <a:prstGeom prst="wedgeRoundRectCallout">
            <a:avLst>
              <a:gd name="adj1" fmla="val -52023"/>
              <a:gd name="adj2" fmla="val 64245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ST NIGHT I SAW A GREAT MOVI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TH MY FRIEND SAR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MET AT 7:00 AND TOOK THE BUS TO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ATRE.  THE TICKET WAS FREE BECA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WON IT AT A RAFF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3124080"/>
            <a:ext cx="8153280" cy="3124440"/>
          </a:xfrm>
          <a:prstGeom prst="wedgeRoundRectCallout">
            <a:avLst>
              <a:gd name="adj1" fmla="val 43865"/>
              <a:gd name="adj2" fmla="val 6062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ERI SERA HO VISTO UN BEL FILM CON 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A AMICA SARA:  CI SIAMO INCONTRAT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E 7:00 E ABBIAMO PRE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’AUTOBUS PER IL TEATR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L BIGLIETTO ERA GRATIS PERCHE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 ABBIAMO VINTO AD UNA LOTTER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57200" y="457200"/>
            <a:ext cx="8077320" cy="5638680"/>
          </a:xfrm>
          <a:prstGeom prst="wedgeRoundRectCallout">
            <a:avLst>
              <a:gd name="adj1" fmla="val 56703"/>
              <a:gd name="adj2" fmla="val 61259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VERY CALLOUT THAT YOU WI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E IN ENGLI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 (IN WRITING) THE CORR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ALIAN SENTENCE OR EXPRES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EMBER  TO LOOK AT THE VER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PAY ATTENTION TO T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JECTS OF THE SENTENC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REMEMBER THE USE OF TEN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THE ADJECTIVES THAT WE HAV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UDI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5000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09480" y="457200"/>
            <a:ext cx="7467840" cy="2057400"/>
          </a:xfrm>
          <a:prstGeom prst="wedgeRoundRectCallout">
            <a:avLst>
              <a:gd name="adj1" fmla="val -43430"/>
              <a:gd name="adj2" fmla="val 81171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HOW IS IT GOING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3352680"/>
            <a:ext cx="7467480" cy="2057400"/>
          </a:xfrm>
          <a:prstGeom prst="wedgeRoundRectCallout">
            <a:avLst>
              <a:gd name="adj1" fmla="val 49402"/>
              <a:gd name="adj2" fmla="val 90587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COME VA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5000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09480" y="457200"/>
            <a:ext cx="7467840" cy="2057400"/>
          </a:xfrm>
          <a:prstGeom prst="wedgeRoundRectCallout">
            <a:avLst>
              <a:gd name="adj1" fmla="val -43430"/>
              <a:gd name="adj2" fmla="val 81171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ERE IS YOU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LASSROOM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3352680"/>
            <a:ext cx="7467480" cy="2057400"/>
          </a:xfrm>
          <a:prstGeom prst="wedgeRoundRectCallout">
            <a:avLst>
              <a:gd name="adj1" fmla="val 49402"/>
              <a:gd name="adj2" fmla="val 90587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OV’E’ LA TUA CLASSE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5000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09480" y="457200"/>
            <a:ext cx="8077320" cy="2057400"/>
          </a:xfrm>
          <a:prstGeom prst="wedgeRoundRectCallout">
            <a:avLst>
              <a:gd name="adj1" fmla="val -43925"/>
              <a:gd name="adj2" fmla="val 81171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DID YOU SPEND YOU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MAS HOLIDAY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3352680"/>
            <a:ext cx="7467480" cy="2057400"/>
          </a:xfrm>
          <a:prstGeom prst="wedgeRoundRectCallout">
            <a:avLst>
              <a:gd name="adj1" fmla="val 49402"/>
              <a:gd name="adj2" fmla="val 90587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 HAI PASSATO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 VACANZE DI NATAL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5000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09480" y="457200"/>
            <a:ext cx="8153640" cy="2057400"/>
          </a:xfrm>
          <a:prstGeom prst="wedgeRoundRectCallout">
            <a:avLst>
              <a:gd name="adj1" fmla="val -43981"/>
              <a:gd name="adj2" fmla="val 81171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COLOR IS YOUR SISTER’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RIEND’S NEW BLUE CAR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3352680"/>
            <a:ext cx="8229600" cy="2057400"/>
          </a:xfrm>
          <a:prstGeom prst="wedgeRoundRectCallout">
            <a:avLst>
              <a:gd name="adj1" fmla="val 40199"/>
              <a:gd name="adj2" fmla="val 90587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 CHE COLORE E’ LA NUOVA MACCHINA BL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LL’AMICA DI TUA SORELL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5000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04920" y="457200"/>
            <a:ext cx="8458200" cy="2057400"/>
          </a:xfrm>
          <a:prstGeom prst="wedgeRoundRectCallout">
            <a:avLst>
              <a:gd name="adj1" fmla="val -40597"/>
              <a:gd name="adj2" fmla="val 81171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I WAS YOUNGER I USED TO PL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CCER WITH MY FRIEN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3352680"/>
            <a:ext cx="8458200" cy="2057400"/>
          </a:xfrm>
          <a:prstGeom prst="wedgeRoundRectCallout">
            <a:avLst>
              <a:gd name="adj1" fmla="val 39564"/>
              <a:gd name="adj2" fmla="val 90587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ERO PIU’ GIOVA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OCAVO A PALLONE CON I MIEI AMI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LE MIE AMICH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5000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04920" y="457200"/>
            <a:ext cx="8458200" cy="2133720"/>
          </a:xfrm>
          <a:prstGeom prst="wedgeRoundRectCallout">
            <a:avLst>
              <a:gd name="adj1" fmla="val -40597"/>
              <a:gd name="adj2" fmla="val 76486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ILE WE PLAY AT THE COMPUTER TH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DINNER FOR OUR FAMI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E NEW KITCH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3429000"/>
            <a:ext cx="8381880" cy="2286000"/>
          </a:xfrm>
          <a:prstGeom prst="wedgeRoundRectCallout">
            <a:avLst>
              <a:gd name="adj1" fmla="val 38560"/>
              <a:gd name="adj2" fmla="val 86527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NTRE NOI GIOCHIAMO AL COMPU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RO PREPARANO LA C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 LA NOSTRA FAMIGL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LLA NUOVA CUCIN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5000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80880" y="304920"/>
            <a:ext cx="8153640" cy="2666880"/>
          </a:xfrm>
          <a:prstGeom prst="wedgeRoundRectCallout">
            <a:avLst>
              <a:gd name="adj1" fmla="val -50699"/>
              <a:gd name="adj2" fmla="val 64166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ARE MANY STUD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IS SCHO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THE BUILDING IS 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Y BI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4920" y="3352680"/>
            <a:ext cx="8534160" cy="2590920"/>
          </a:xfrm>
          <a:prstGeom prst="wedgeRoundRectCallout">
            <a:avLst>
              <a:gd name="adj1" fmla="val 43935"/>
              <a:gd name="adj2" fmla="val 74569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I SONO MOLTI STUDENTI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 QUESTA SCUOL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 L’EDIFICIO NON E’ MOLTO GRAND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2T18:01:16Z</dcterms:created>
  <dc:creator>Remote</dc:creator>
  <dc:description/>
  <dc:language>en-US</dc:language>
  <cp:lastModifiedBy>Preferred Customer</cp:lastModifiedBy>
  <dcterms:modified xsi:type="dcterms:W3CDTF">2002-01-27T02:52:20Z</dcterms:modified>
  <cp:revision>1</cp:revision>
  <dc:subject/>
  <dc:title>No Slide Title</dc:title>
</cp:coreProperties>
</file>